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3FD1-877B-417E-AE56-906A9FBF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4117680"/>
            <a:ext cx="876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83AA-A19C-4742-9932-A6F1F771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137124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11768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2560" y="411768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5C2-5DD1-4ED8-B600-6A8F2234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5080" y="137124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7880" y="137124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411768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5080" y="411768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7880" y="4117680"/>
            <a:ext cx="2821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7CDE-1177-4F6D-A4D0-2F280124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EB31-012D-4F28-B82D-AD02D433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EB5-EDB9-4FD9-9825-DC566C4B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27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2560" y="1371240"/>
            <a:ext cx="427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74E5-AFC0-45E8-B7B5-80E9135B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B4FF-6FE1-4A1D-A193-6A3053AA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7679-0BDF-431F-B903-97D628C0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2560" y="1371240"/>
            <a:ext cx="427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411768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5517-384C-47B3-B542-00E72F5C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27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2560" y="137124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2560" y="411768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DC99-3792-4275-9464-B73E0C16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2560" y="1371240"/>
            <a:ext cx="427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4117680"/>
            <a:ext cx="8763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2726-9AC4-4B4F-9B04-5E8E06C8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0146-650E-4E10-B0C7-7255D6B24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ildback"/>
          <p:cNvPicPr/>
          <p:nvPr/>
        </p:nvPicPr>
        <p:blipFill>
          <a:blip r:embed="rId2"/>
          <a:stretch/>
        </p:blipFill>
        <p:spPr>
          <a:xfrm>
            <a:off x="0" y="220680"/>
            <a:ext cx="9186840" cy="6481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dli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914400" y="3276720"/>
            <a:ext cx="7238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Save Endangered Spec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1970’s genetic material from a wild corn species in Mexico was used to stop a leaf fungus that had previously wiped out 15% of the U.S. corn cro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Save Endangered Spec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ercial and recreational salmon fishing in the Pacific Northwest provides 60,000 jobs and $1 billion dollars annually and is the center of Pacific Northwest Native American cultur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ndustry is in trouble as salmon decline due to habitat degration from dams, clear cutting, and overgrazing along strea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s about endangered spe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than one and one half million species exist on the earth toda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are more than 1,000 animal species endangered worldwi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s about endangered spe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U.S., 735 species of plants, 496 species of animals are listed as threatened or endange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66 of these listed species have recovery plans under develop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some “Endangered Species” organiz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Audubon Society’s Endangered Species Campa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angered Species Program-U.S. Fish &amp; Wildlife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Wildlife Fed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ld Conservation Monitoring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dlife Conservation Socie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What can you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Suppose your expensive, newly planted trees are being eaten by an endanagered species of bird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You can not kill the birds because that would be illega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You have contacted the local fish and wildlife agency, but they are busy and can’t address your situation for at least two to three weeks. What can you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angerment vs. Exti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i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ecies that has disappeared from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food shortages, pollution, destruction of habitat or failure to re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anger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threat to wildlife species that would lead to its exti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ndangered species is one that is in immediate danger of exti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atened vs. R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atened spec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population numbers and may become endang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n immediate danger of becoming extin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re spec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 in small nu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t managed well a rare species may become threaten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191360" y="1600200"/>
          <a:ext cx="195264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91360" y="1600200"/>
                    <a:ext cx="19526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s for endangerment and extin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truction of Habit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rban sprawl (the expanding of towns and cit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 of new exotic spe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explo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ilure to reprodu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od shor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ve vs. Exot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ve spec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ts and animals that are part of a specific geographic area and have been part of the biological landscape for a long period of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otic spec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ed by hum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exotic species effect wild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rmfu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y on natural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e for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s new diseases the natural species cannot deal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lp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new 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fight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reduce over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exploit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pecies may become endangered due to the rate in which the species is being us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icture the unrestricted harvest of whales during the early and middle parts of the 2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entu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lead to restrictions and laws on whal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pulation of wild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introduction of wildlife into their natural habit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t additional food sour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ruct safe environments where they can breed and give bi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age the use of chemic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e the animals to less polluted, less populated are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Save Endangered Spec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low growing tree found in the ancient forest of the Pacific Northwest, once considered a trash tree, was recently identified as a promising treatment for ovarian and breast canc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gitalis is a drug derived from the purple foxglove, it’s used to treat heart dise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00:07:24Z</dcterms:created>
  <dc:creator>Steve Sargeant</dc:creator>
  <dc:description/>
  <dc:language>en-US</dc:language>
  <cp:lastModifiedBy>Alicia Burge</cp:lastModifiedBy>
  <dcterms:modified xsi:type="dcterms:W3CDTF">2011-04-19T00:46:41Z</dcterms:modified>
  <cp:revision>23</cp:revision>
  <dc:subject/>
  <dc:title>Describing Species Endangerment</dc:title>
</cp:coreProperties>
</file>